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4B0-B803-47CB-ACA7-F356A17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A7C-0621-4093-A3F9-6A15FCD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51B-AD15-45F6-A789-2FAB14AA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97-2014-4A72-885D-CAFB132B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2FD9-C9C8-49EE-A1DE-78B118F5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5AF-59DA-44F6-920B-0043289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6F5B-7943-4200-9705-63C51C7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1CB-F59F-4D1E-B079-2ACEBCAF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702D-4174-4261-9008-6FF6341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F23B-E8CE-42AC-A56A-54CCA57E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3029-B95B-4A99-91C6-C9B2DCB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352-80AD-4DE7-A5F3-70274D5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3999-7CD6-458C-882F-C3D2641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273-99CF-464F-B8A3-B152D04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80C4-1A54-4E3F-BEA3-363BE3BA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504A-AFDF-4C0C-9D83-AEAD93C9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F3B7-E46C-4368-A483-063F15D3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FF6-C8C8-40B8-B15A-D3A617BC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043-8454-4A3B-BDD6-E28B838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74A-D683-416E-927C-2144F46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017-87A3-4883-8F4A-1B3EBE2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16E-E49E-44A2-BA4E-9EFE378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E9F-FD14-4B2D-9052-74C2C26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E6E-6E90-4CCC-8DFF-D587EDA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A8A-3882-4168-BA81-0ADF40046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C7C-53F9-4B02-A47D-308C212AC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arket Failure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in Video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u Co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olence in Videogam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608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rket Failure Grap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916280"/>
            <a:ext cx="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805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276640"/>
            <a:ext cx="3527280" cy="3240000"/>
          </a:xfrm>
          <a:custGeom>
            <a:avLst/>
            <a:gdLst/>
            <a:ahLst/>
            <a:rect l="l" t="t" r="r" b="b"/>
            <a:pathLst>
              <a:path w="2222" h="2041">
                <a:moveTo>
                  <a:pt x="0" y="2041"/>
                </a:moveTo>
                <a:cubicBezTo>
                  <a:pt x="232" y="1910"/>
                  <a:pt x="1022" y="1594"/>
                  <a:pt x="1392" y="1254"/>
                </a:cubicBezTo>
                <a:cubicBezTo>
                  <a:pt x="1762" y="914"/>
                  <a:pt x="2049" y="261"/>
                  <a:pt x="22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65400" y="1871640"/>
            <a:ext cx="3597480" cy="3233880"/>
          </a:xfrm>
          <a:custGeom>
            <a:avLst/>
            <a:gdLst/>
            <a:ahLst/>
            <a:rect l="l" t="t" r="r" b="b"/>
            <a:pathLst>
              <a:path w="2266" h="2037">
                <a:moveTo>
                  <a:pt x="0" y="0"/>
                </a:moveTo>
                <a:cubicBezTo>
                  <a:pt x="147" y="199"/>
                  <a:pt x="507" y="855"/>
                  <a:pt x="885" y="1194"/>
                </a:cubicBezTo>
                <a:cubicBezTo>
                  <a:pt x="1263" y="1533"/>
                  <a:pt x="1978" y="1862"/>
                  <a:pt x="2266" y="20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5560" y="2293920"/>
            <a:ext cx="3646800" cy="3222720"/>
          </a:xfrm>
          <a:custGeom>
            <a:avLst/>
            <a:gdLst/>
            <a:ahLst/>
            <a:rect l="l" t="t" r="r" b="b"/>
            <a:pathLst>
              <a:path w="2297" h="2030">
                <a:moveTo>
                  <a:pt x="0" y="0"/>
                </a:moveTo>
                <a:cubicBezTo>
                  <a:pt x="141" y="192"/>
                  <a:pt x="460" y="814"/>
                  <a:pt x="843" y="1152"/>
                </a:cubicBezTo>
                <a:cubicBezTo>
                  <a:pt x="1226" y="1490"/>
                  <a:pt x="1994" y="1847"/>
                  <a:pt x="2297" y="20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508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84000" y="450864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0" cy="165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4149720"/>
            <a:ext cx="25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1640" y="5661000"/>
            <a:ext cx="431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0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5373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73408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573408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Q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400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P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365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66920" y="3716280"/>
            <a:ext cx="360360" cy="433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4149720"/>
            <a:ext cx="0" cy="647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59280" y="4149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0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ad Weigh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it Market Failur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of videogames only consider their own private costs and benefits of consumption, so there is over-consumption at (Qf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n other consumers caused by videogames is considered to be negative, therefore the socially desirable level of videogames is (Q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ree market there is over-consumption of videogames as external cos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g. hospital bills caused by violence stimulated from video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 are not considered, which causes dead-weight lo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hown in the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nd therefore there is market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6:39:41Z</dcterms:created>
  <dc:creator>Radu Costin</dc:creator>
  <dc:description/>
  <dc:language>en-US</dc:language>
  <cp:lastModifiedBy>Radu Costin</cp:lastModifiedBy>
  <dcterms:modified xsi:type="dcterms:W3CDTF">2008-07-20T19:34:26Z</dcterms:modified>
  <cp:revision>5</cp:revision>
  <dc:subject/>
  <dc:title>Market Failure </dc:title>
</cp:coreProperties>
</file>